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4654-60DE-4A48-B564-B7D6E0ED1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BAEE-5857-4365-B19D-384619281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CB99-C50E-4B4A-90F5-EFD1A7445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0FBF-3435-4CF1-9F23-AA6446009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FF33-DED2-48CA-BA43-88674B12B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F42D-0C72-40E4-B261-278ADE947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90C2-C407-4B75-B153-56ABF64DE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A0A8-6014-469F-B6EF-CBA20FA3F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116E-7110-4471-85A8-454E3EBB2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93C8-DFD8-4B88-AD89-BE220F705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CE9E-8D65-4EC6-963B-52E9114EE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34C-BFD2-4CF2-B6C8-EEE9DDCB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BFB-1D68-4827-BDB5-65BA91D8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4B2-400E-4FFA-BDCF-F79F9E9C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24A-31DB-4E34-8675-769DD1BD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ECF-8EDC-4721-969C-06628B2F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D65-D280-4B57-B8A5-898A7EEB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A4A-BF35-4053-898E-538180C4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B3BE-7FBE-41EC-B1B6-79F79224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E28-001F-414E-B0E1-D12FDD98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DAC-683C-4C45-9037-6249D163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DC5-F735-4D60-9AE3-EFD20FC6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445-619C-4CED-8E76-CA233263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D4E1-F1C1-4703-AA68-804C57DFB012}" type="datetime3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SBI3U - Mr.Vasili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A3DA-CBED-4A10-90D2-2FA7B920BB74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8150-D430-4625-990A-4A5EA15B964A}" type="datetime3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8B2B-9E22-430B-AB0F-A48E09360993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777708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41e1e"/>
                </a:solidFill>
                <a:latin typeface="Comic Sans MS"/>
              </a:rPr>
              <a:t>UNIT 1: CELLULAR BIOLOGY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841e1e"/>
                </a:solidFill>
                <a:latin typeface="Comic Sans MS"/>
              </a:rPr>
              <a:t>Cell Theory &amp; the Microscope</a:t>
            </a:r>
            <a:endParaRPr b="0" lang="en-US" sz="4000" spc="-1" strike="noStrike">
              <a:solidFill>
                <a:srgbClr val="000000"/>
              </a:solidFill>
              <a:latin typeface="Bauhaus 93"/>
            </a:endParaRPr>
          </a:p>
        </p:txBody>
      </p:sp>
      <p:pic>
        <p:nvPicPr>
          <p:cNvPr id="51" name="Picture 18" descr="SuperStock_1612R-2774"/>
          <p:cNvPicPr/>
          <p:nvPr/>
        </p:nvPicPr>
        <p:blipFill>
          <a:blip r:embed="rId1"/>
          <a:stretch/>
        </p:blipFill>
        <p:spPr>
          <a:xfrm>
            <a:off x="4767120" y="3716280"/>
            <a:ext cx="4125960" cy="283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huge"/>
          <p:cNvPicPr/>
          <p:nvPr/>
        </p:nvPicPr>
        <p:blipFill>
          <a:blip r:embed="rId2"/>
          <a:stretch/>
        </p:blipFill>
        <p:spPr>
          <a:xfrm>
            <a:off x="179280" y="3716280"/>
            <a:ext cx="42865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croscope Activity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pic>
        <p:nvPicPr>
          <p:cNvPr id="96" name="Picture 4" descr="act005"/>
          <p:cNvPicPr/>
          <p:nvPr/>
        </p:nvPicPr>
        <p:blipFill>
          <a:blip r:embed="rId1"/>
          <a:stretch/>
        </p:blipFill>
        <p:spPr>
          <a:xfrm>
            <a:off x="1571760" y="5357880"/>
            <a:ext cx="3887640" cy="1181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428760" y="1214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Obtain a microscope.  Working in pairs, identify all       of the parts of the micro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28760" y="2071800"/>
            <a:ext cx="7929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activity (Resolution) on page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sure each of you answers questions a, b and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erial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ide &amp; cover slip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ured picture from a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This%20is%20a%20test"/>
          <p:cNvPicPr/>
          <p:nvPr/>
        </p:nvPicPr>
        <p:blipFill>
          <a:blip r:embed="rId2"/>
          <a:stretch/>
        </p:blipFill>
        <p:spPr>
          <a:xfrm>
            <a:off x="6429240" y="3714840"/>
            <a:ext cx="2116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ll Theory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living things are composed of one or more ce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lls are the basic structural and functional units of lif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cells arise from the division of other ce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  Robert Hooke discover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lls in 165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? ……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cell"/>
          <p:cNvPicPr/>
          <p:nvPr/>
        </p:nvPicPr>
        <p:blipFill>
          <a:blip r:embed="rId1"/>
          <a:stretch/>
        </p:blipFill>
        <p:spPr>
          <a:xfrm>
            <a:off x="7157880" y="260280"/>
            <a:ext cx="198612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robert_hooke"/>
          <p:cNvPicPr/>
          <p:nvPr/>
        </p:nvPicPr>
        <p:blipFill>
          <a:blip r:embed="rId2"/>
          <a:stretch/>
        </p:blipFill>
        <p:spPr>
          <a:xfrm>
            <a:off x="7236000" y="4508640"/>
            <a:ext cx="17366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pic>
        <p:nvPicPr>
          <p:cNvPr id="58" name="Picture 5" descr="fg14_3_1"/>
          <p:cNvPicPr/>
          <p:nvPr/>
        </p:nvPicPr>
        <p:blipFill>
          <a:blip r:embed="rId1"/>
          <a:stretch/>
        </p:blipFill>
        <p:spPr>
          <a:xfrm>
            <a:off x="684360" y="1628640"/>
            <a:ext cx="4038480" cy="448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138-microscopes-lg"/>
          <p:cNvPicPr/>
          <p:nvPr/>
        </p:nvPicPr>
        <p:blipFill>
          <a:blip r:embed="rId2"/>
          <a:stretch/>
        </p:blipFill>
        <p:spPr>
          <a:xfrm>
            <a:off x="5867280" y="1700280"/>
            <a:ext cx="2438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s two len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ocular lens (10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objective lens (4X, 10X, 40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ow 4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Medium 10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High 40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agnifi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ility of lenses to enlar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mage of a speci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nification = ocular lens X objective l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0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=      10X     times     40X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7" descr="magnification"/>
          <p:cNvPicPr/>
          <p:nvPr/>
        </p:nvPicPr>
        <p:blipFill>
          <a:blip r:embed="rId1"/>
          <a:stretch/>
        </p:blipFill>
        <p:spPr>
          <a:xfrm>
            <a:off x="5715000" y="2286000"/>
            <a:ext cx="3193920" cy="3193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500040" y="5572080"/>
            <a:ext cx="62658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49672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mount of detail see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viewing a speci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or resolution = blurred im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resolution = clear, sharp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m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4" descr="blurry_20030715"/>
          <p:cNvPicPr/>
          <p:nvPr/>
        </p:nvPicPr>
        <p:blipFill>
          <a:blip r:embed="rId1"/>
          <a:srcRect l="33286" t="0" r="10850" b="16042"/>
          <a:stretch/>
        </p:blipFill>
        <p:spPr>
          <a:xfrm>
            <a:off x="5651640" y="1413000"/>
            <a:ext cx="302400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ell1"/>
          <p:cNvPicPr/>
          <p:nvPr/>
        </p:nvPicPr>
        <p:blipFill>
          <a:blip r:embed="rId2"/>
          <a:srcRect l="30564" t="0" r="0" b="11399"/>
          <a:stretch/>
        </p:blipFill>
        <p:spPr>
          <a:xfrm>
            <a:off x="5678640" y="3938760"/>
            <a:ext cx="2997000" cy="2187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CA20-6211-42E0-BAA0-09DE9B580D0A}" type="datetime3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41CA-F687-4B8A-8707-D34C7A8CF93E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Alba Super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1341360"/>
          <a:ext cx="4454280" cy="49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445428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6"/>
          <p:cNvSpPr/>
          <p:nvPr/>
        </p:nvSpPr>
        <p:spPr>
          <a:xfrm>
            <a:off x="5506920" y="873000"/>
            <a:ext cx="3168720" cy="60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 ocul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 body tub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. ar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 clip adjustment kn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adjustment kn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lving nose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er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. stage cl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1. st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. condens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3. diaphrag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4. ligh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5. 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565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croscope P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 oc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yepiece lens, magnifies 10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body tu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rects light into ocular, suppo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stage clip adjustment kn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ves slide a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coarse adjustment kn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ves stage up and down to focus 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6" name="Text Box 150"/>
          <p:cNvSpPr/>
          <p:nvPr/>
        </p:nvSpPr>
        <p:spPr>
          <a:xfrm>
            <a:off x="3708360" y="2270160"/>
            <a:ext cx="489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2"/>
          <p:cNvSpPr/>
          <p:nvPr/>
        </p:nvSpPr>
        <p:spPr>
          <a:xfrm>
            <a:off x="3708360" y="3789360"/>
            <a:ext cx="489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3"/>
          <p:cNvSpPr/>
          <p:nvPr/>
        </p:nvSpPr>
        <p:spPr>
          <a:xfrm>
            <a:off x="3708360" y="4305240"/>
            <a:ext cx="4896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4"/>
          <p:cNvSpPr/>
          <p:nvPr/>
        </p:nvSpPr>
        <p:spPr>
          <a:xfrm>
            <a:off x="3635280" y="5300640"/>
            <a:ext cx="4896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5"/>
          <p:cNvSpPr/>
          <p:nvPr/>
        </p:nvSpPr>
        <p:spPr>
          <a:xfrm>
            <a:off x="3708360" y="2781360"/>
            <a:ext cx="4896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229600" cy="495792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565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croscope P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 fine adjustment kno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e focus for most clear 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 revolving   nosepie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lds objective lenses &amp; facilitates changing magn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 objective l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rther magnifies the 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 aper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ing to allow light to hit the speci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 stage cl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lds slide in 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Text Box 46"/>
          <p:cNvSpPr/>
          <p:nvPr/>
        </p:nvSpPr>
        <p:spPr>
          <a:xfrm>
            <a:off x="3780000" y="2276640"/>
            <a:ext cx="4824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7"/>
          <p:cNvSpPr/>
          <p:nvPr/>
        </p:nvSpPr>
        <p:spPr>
          <a:xfrm>
            <a:off x="3708360" y="3213000"/>
            <a:ext cx="482436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708360" y="4594320"/>
            <a:ext cx="4824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3708360" y="5170320"/>
            <a:ext cx="4824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1"/>
          <p:cNvSpPr/>
          <p:nvPr/>
        </p:nvSpPr>
        <p:spPr>
          <a:xfrm>
            <a:off x="3708360" y="6073920"/>
            <a:ext cx="4824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 Light Microscope</a:t>
            </a:r>
            <a:endParaRPr b="0" lang="en-US" sz="4400" spc="-1" strike="noStrike">
              <a:solidFill>
                <a:srgbClr val="000000"/>
              </a:solidFill>
              <a:latin typeface="Bauhaus 93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00200"/>
          <a:ext cx="8229600" cy="415116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565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croscope P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 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ce specimen on 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 conden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cuses light into a b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 diaphrag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rols the amount of light hitting the speci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 ligh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nds out light rays so specimen is 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.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pports microsc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9"/>
          <p:cNvSpPr/>
          <p:nvPr/>
        </p:nvSpPr>
        <p:spPr>
          <a:xfrm>
            <a:off x="3851280" y="2205000"/>
            <a:ext cx="4608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3780000" y="2846520"/>
            <a:ext cx="4608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3708360" y="3422520"/>
            <a:ext cx="47512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3708360" y="4365720"/>
            <a:ext cx="47512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3780000" y="5294160"/>
            <a:ext cx="4608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3:45:35Z</dcterms:created>
  <dc:creator>Candle</dc:creator>
  <dc:description/>
  <dc:language>en-US</dc:language>
  <cp:lastModifiedBy>mobilef</cp:lastModifiedBy>
  <dcterms:modified xsi:type="dcterms:W3CDTF">2013-03-12T20:24:35Z</dcterms:modified>
  <cp:revision>112</cp:revision>
  <dc:subject/>
  <dc:title>Slide 1</dc:title>
</cp:coreProperties>
</file>